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6E9-F384-4CD9-A397-151ACA97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A74-D715-48FD-8E24-547AF1D5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E9E-EB14-4595-8E4C-0865E544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073-96B2-4553-8DC8-558A7B74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2CF1-08AA-4D60-A812-60885611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9FC2-39E2-4CF8-9FAB-77BB04F8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37F7-B486-4170-9955-F60019A3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6E08-9C99-4C61-B9BA-180D5F2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2CB3-8784-4830-959E-0B17B371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1466-93E6-4FCA-BB7E-C2C247C1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72A8-8682-4DB5-A4E0-3F1B0EA2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ED3-7BDF-4BCC-81CC-165F2CE9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CAC6-1012-4C6C-9DD6-5FC9E26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1AC3-CDC8-4433-B0DB-821E757D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2566-6FDB-40E0-802E-9F71DADD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23DA-BE14-4919-83E0-5BB974CD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1C73-2A8E-43B5-B63C-2A199851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3CA-7D39-458E-9A06-2A2E562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4F1-38F8-4B97-8789-17AE8E5F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DB0-9E2C-470C-9777-56FC39DD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DB8-E871-4BE0-A245-BF234897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30E-98FB-4DA7-8B7A-EEA6AEE1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299-ACAA-4A2E-8CBE-12252370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C50-F1E3-4FF2-B41C-497AEFD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1F50-06BA-4DC7-97FF-C43A8EC843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51CD-B481-432B-9D04-C9DEC0CA69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erment of Reform &amp; Cul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gher Goals for Higher Lear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ah Webster-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master of the Republic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tionary published in 18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GA led to small, denominational, liberal arts colleges in the South &amp; W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-bound curri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tate-supported universit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education for women ro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158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n Age of Refor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2438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gradually abolished debtors' pris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a that prisons should reform as well as punish ar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rothy Di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released a report on insanity and asylums; improved conditions for the mentally 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440400" y="152280"/>
            <a:ext cx="2703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mperanc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blem of drinking was found in women, clergymen, and members of Congres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Temperance Socie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 of drinking tore down the family struc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al S. D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"Father of Prohibition"; supported banning the manufacture and sale of liqu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men in Revolt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3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le of women was to stay at home and be subordinate to her husb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could not vote and when married, she could not retain her property.  Women actually started to avoid marri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inists met at Seneca Falls, New York in a Woman's Rights Convention in 1848; wrote The Declaration of Sentiments (Elizabeth Cady Stanton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cientific Achievement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were more interested in practical gadgets than in pure science. by modern standar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arly 1840s, several American doctors and dentists successfully used laughing gas and ether as anesthe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ew Literatur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36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lossoming of a National 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the reading material in America was imported or taken from British 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ington Irving- the first American to win international recognition as a literary fig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 Fenimore Cooper- the first American novelist to gain world f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7078680" y="-3240"/>
            <a:ext cx="20908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ew Literature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gar Allan Poe- wrote with a pessimistic tone, not like the literature at th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man Melville- writer of the novel Moby Dic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nry Wadsworth Longfellow- one of the most famous poets to come from America wrote for the refined class; was adopted by the less-cultured cl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cond Great Awakening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 of spiritual ferv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mp meetings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ousands gathered to listen to a pre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sted church memb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ulated humanitarian re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onary wor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6a00e54eeede1588340133ed8a3580970b-500wi"/>
          <p:cNvPicPr/>
          <p:nvPr/>
        </p:nvPicPr>
        <p:blipFill>
          <a:blip r:embed="rId1"/>
          <a:stretch/>
        </p:blipFill>
        <p:spPr>
          <a:xfrm>
            <a:off x="5715000" y="4859280"/>
            <a:ext cx="28954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cond Great Awakening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Cartwr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veling preac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ed upon sinners to rep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Grandison Finne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petercartwright"/>
          <p:cNvPicPr/>
          <p:nvPr/>
        </p:nvPicPr>
        <p:blipFill>
          <a:blip r:embed="rId1"/>
          <a:stretch/>
        </p:blipFill>
        <p:spPr>
          <a:xfrm>
            <a:off x="6858000" y="1828800"/>
            <a:ext cx="1469880" cy="18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220px-Charles_g_finney"/>
          <p:cNvPicPr/>
          <p:nvPr/>
        </p:nvPicPr>
        <p:blipFill>
          <a:blip r:embed="rId2"/>
          <a:stretch/>
        </p:blipFill>
        <p:spPr>
          <a:xfrm>
            <a:off x="3124080" y="4343400"/>
            <a:ext cx="20955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econd Great Awakening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inization of relig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dle class women- religious enthusias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of new church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ale spiritual wo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nominational Diversity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Great Awakening widened the lines b/w relig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iscopalians, Presbyterians, Unitarians: wealthier classes of society (untouched by SGA, east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ists, Baptists: spawned by religious fervor, came from less prosperous classes in S &amp; 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sert </a:t>
            </a:r>
            <a:r>
              <a:rPr b="1" lang="ja-JP" sz="4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ion</a:t>
            </a:r>
            <a:r>
              <a:rPr b="1" lang="ja-JP" sz="4400" spc="-1" strike="noStrike">
                <a:solidFill>
                  <a:srgbClr val="eaeaea"/>
                </a:solidFill>
                <a:latin typeface="Tahoma"/>
              </a:rPr>
              <a:t>”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in Uta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k of Morm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urch of Latter Day S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religion- Joseph Smi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ition (polygamy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gham Young leads Mormons to Uta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220px-BrighamYoung1"/>
          <p:cNvPicPr/>
          <p:nvPr/>
        </p:nvPicPr>
        <p:blipFill>
          <a:blip r:embed="rId1"/>
          <a:stretch/>
        </p:blipFill>
        <p:spPr>
          <a:xfrm>
            <a:off x="7391520" y="1371600"/>
            <a:ext cx="1638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cendentalis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lden age in American lit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jected John Locke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theory that knowledge comes to the mind from the sen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th 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ends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senses: it cannot be found through observation alo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-reliance &amp; self-discipl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cendentalism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lph Waldo Em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et &amp; philosop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ssed self-reliance &amp; self-confid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spoken critic of slave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nry David Thore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et, mystic, non-confor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th through study &amp; medit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220px-Emerson3_cropped"/>
          <p:cNvPicPr/>
          <p:nvPr/>
        </p:nvPicPr>
        <p:blipFill>
          <a:blip r:embed="rId1"/>
          <a:stretch/>
        </p:blipFill>
        <p:spPr>
          <a:xfrm>
            <a:off x="6781680" y="914400"/>
            <a:ext cx="1446480" cy="2209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230px-Henry_David_Thoreau"/>
          <p:cNvPicPr/>
          <p:nvPr/>
        </p:nvPicPr>
        <p:blipFill>
          <a:blip r:embed="rId2"/>
          <a:stretch/>
        </p:blipFill>
        <p:spPr>
          <a:xfrm>
            <a:off x="7323120" y="4267080"/>
            <a:ext cx="1820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ducation Refor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-supported public education came abou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e their children because the children were the fu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very many schools in the U.S. because of their high costs to commun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race Mann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mpaigned effectively for a better schooling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620120" y="76320"/>
            <a:ext cx="15350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21:01:46Z</dcterms:created>
  <dc:creator>emily.johnson</dc:creator>
  <dc:description/>
  <dc:language>en-US</dc:language>
  <cp:lastModifiedBy>Golden, Emily</cp:lastModifiedBy>
  <dcterms:modified xsi:type="dcterms:W3CDTF">2013-11-12T16:57:54Z</dcterms:modified>
  <cp:revision>7</cp:revision>
  <dc:subject/>
  <dc:title>Chapter 15</dc:title>
</cp:coreProperties>
</file>